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B90-17EF-4A34-95CE-411FD6B9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CC7-136E-4664-9E16-461AE14B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7FB-001B-48A2-9274-3930910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F9D-3F4B-4E63-877D-D44AD2B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F0C3-7C5C-4C08-9DD7-3709C99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C3EE-7DE2-40C3-BEDD-FDCFD98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31688-C9DC-4DBC-B2CC-DCD0212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BF4E-3FB9-4EB9-8666-F796B76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A9DAB-40AD-4546-948D-E7A7B123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0E01D-A41F-4914-8EFE-C1277F2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7E5E-5D2A-413C-B80F-647A598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379-14E7-4B6C-AA60-45309F76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4CEB-A835-4D59-B49F-79DB3895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2422-180A-4A62-B470-CEDAB6B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49539-59E7-4832-949B-5172869A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744A2-9D50-4D9D-9B97-52FA52FC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B3A8-E787-488D-87B2-183AB0E3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E71-C977-4C55-87BE-8F4BD6E7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6BB-DDC4-41D2-8B4E-5E890344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868-EE29-4068-9554-225AE12C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537-C928-4F89-8DA6-7AEFC1BE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9D5-D8A3-477A-9D43-50FBE51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762-B978-4311-A607-4008150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7D4-8C25-4451-86BD-1A2FE9B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E304-8A09-4720-85CE-66CA5BDF3E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5AFE-4D43-452A-8141-DF0DC8CCD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Projeto de Ensino desenvolvido na E.E. Senador Filinto Muller-Extensã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ítulo do projet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Terra, Planeta Águ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rofessora coordenadora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nthya Maria Staut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laboraçã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Professor STE Claudemir e NTE Professora Carla Varel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Execuçã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Professora Maria José, Izabel e Rose Mazzar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mponentes curriculares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ências Naturais / Meio Ambiente; Matemática; Língua Portuguesa e Artes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ublico Alv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6º Ano D do Ensino Fundamental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urn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Vespertin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eríodo de realização: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Setembro/ Novembro de 2009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lunos confeccionando filtro para fazerem a experiê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41440" y="1973160"/>
            <a:ext cx="291636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30880" y="1973160"/>
            <a:ext cx="291132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440000" y="4025880"/>
            <a:ext cx="2917800" cy="198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784920" y="13604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427640" y="4005360"/>
            <a:ext cx="2952720" cy="201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Os alunos estão realizando a experiência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filtrando a águ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360036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45780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26920" y="1484280"/>
            <a:ext cx="338472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284720" y="3789360"/>
            <a:ext cx="360036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lunos na STE fazendo pesquisa relacionada ao desenvolvimento do proje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29145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30243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258920" y="3962520"/>
            <a:ext cx="2914560" cy="198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213080" y="3962520"/>
            <a:ext cx="3022920" cy="196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516720" y="1557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692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 realização do projeto alcançou os objetivos propostos, bem como a participação dos alunos durante o desenvolvimento das atividades, evidenciando a importância de se trabalhar de forma interdisciplin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26:51Z</dcterms:created>
  <dc:creator>Microsoft</dc:creator>
  <dc:description/>
  <dc:language>en-US</dc:language>
  <cp:lastModifiedBy>Microsoft</cp:lastModifiedBy>
  <dcterms:modified xsi:type="dcterms:W3CDTF">2009-12-09T18:53:05Z</dcterms:modified>
  <cp:revision>9</cp:revision>
  <dc:subject/>
  <dc:title>Projeto de Ensino desenvolvido na E.E.Senador Filinto Muller-Extensão</dc:title>
</cp:coreProperties>
</file>